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315-F4A8-45DC-9FA4-63D2B9F9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B05-3AAD-4966-8E65-FB1AEE9A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0DF-319A-4692-8791-D82BBE56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867-F196-41DF-ACF2-8106E21F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026-EC21-440E-873F-DA82C15D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A14-5F9C-4DE5-BB11-B1D63980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450-DBF6-423B-A2A9-859640F8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C01-A095-4448-BA1C-42248A09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4FC-A492-4A49-947A-E4712FFC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ED1-D121-478F-B30E-E826C388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89F-6AB9-4BA6-9E9B-0F4A10E0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069-DBEF-4EA7-9EE1-536B12D3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3BC3-DDB1-4444-82EA-43E4D372D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9017280" cy="699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28760" y="592920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7500960" y="59292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Comm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C842-C4F9-4A3C-A2A1-AD6981322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286760" y="50004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ve Spa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rning to Learn 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6B76-F976-4394-A398-999EC9C66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atures of the Physical Comm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ility (furniture and schedu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working places and sp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tivity spaces and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fortable and stimul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 and resources kids want and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 and computers don’t get in the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0913-6B50-4408-8209-7B0D3B533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atures of the Physical Comm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table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bration of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mplary learning experiences – relevant and real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, small groups, large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ultural center – Listening Lu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e for Professional Learning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7358040" y="4357800"/>
            <a:ext cx="2041560" cy="2070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7803-58EB-44F0-ABFE-01DD887BC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Library Web Pa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s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Virtual Learning Comm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71600" y="2057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 Giant Convers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Diagram 3" descr=""/>
          <p:cNvPicPr/>
          <p:nvPr/>
        </p:nvPicPr>
        <p:blipFill>
          <a:blip r:embed="rId1"/>
          <a:stretch/>
        </p:blipFill>
        <p:spPr>
          <a:xfrm>
            <a:off x="1517760" y="3193920"/>
            <a:ext cx="6108480" cy="3517920"/>
          </a:xfrm>
          <a:prstGeom prst="rect">
            <a:avLst/>
          </a:prstGeom>
          <a:ln w="0">
            <a:noFill/>
          </a:ln>
        </p:spPr>
      </p:pic>
      <p:sp>
        <p:nvSpPr>
          <p:cNvPr id="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673C-EE61-4AA1-B021-FD87CDB8F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Learning Commons Fea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aborative Web 2.0 learning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center built by every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al book clubs/discu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 conversations: teacher/teacher librarian/learners and other specia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central -24/7/3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al year book/muse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61240" y="4724280"/>
            <a:ext cx="1825560" cy="160992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00C2-4EF7-41AC-8823-0CC95E652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will it Co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9E98-6C75-42BA-B86A-0B9EE8ED5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31:27Z</dcterms:created>
  <dc:creator>Carol Koechlin</dc:creator>
  <dc:description/>
  <dc:language>en-US</dc:language>
  <cp:lastModifiedBy>Carol Koechlin</cp:lastModifiedBy>
  <dcterms:modified xsi:type="dcterms:W3CDTF">2010-04-12T17:35:36Z</dcterms:modified>
  <cp:revision>1</cp:revision>
  <dc:subject/>
  <dc:title>Slide 1</dc:title>
</cp:coreProperties>
</file>